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8AD-D4CE-4BA9-AD80-5BE7D792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201-78A3-44AC-9A48-3C9BAE6C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116-BF0E-4929-916C-3BA507D9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658-70D2-43AA-81C6-BB115282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002E-0DDB-405E-8344-6C9EA694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7B7-7B9B-4A42-BDA5-166A1D4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C2D-2315-44A1-BEBD-955FC0C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5444-7A3F-4346-A3DA-CC7271C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1FF4-23CE-4841-90C7-3A2C7933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F77-604E-4C86-A5D8-E52D4BE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98DE-B075-42C6-AA1A-527AE0F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C23-9C59-4C41-81C9-23C1705C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C3D-C8B9-409A-85EC-134814B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87B-E679-4F20-B8C9-558B913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24B0-2488-4E5C-8A8A-9C35B87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BCF8-E59E-47C8-A3F6-68A2421E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E0D-CC01-48D5-9021-7DC14F4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D171-C45E-4BE4-8789-F0802A65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FEE3-C0EF-4B67-A966-4E49A20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0D26-3694-42DA-B58B-F3B5B44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6B14-DE5C-4D2C-94F4-695F4A5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27F3-9162-4830-8B9C-FFAE69A5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735-8AF7-42E3-8C2A-BC12E52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8CE8-E85E-4C5B-B8AA-AC04FF6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498C-D7B4-4080-AA84-C149325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CFD0-0618-4CB3-BE58-D19296A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6768-AD54-4366-A329-8DF4E59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DBE4-95FC-41D8-B1BC-038EC7F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8CF8-FD93-47EE-8337-AE08AB11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734C-E9F2-40E0-B00B-54B2682E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38744-EAA1-4423-BC67-0B5CA866C8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8A67F-C66D-4865-A002-005ACC5B7E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0DD79-87AC-4A5F-85B5-28BE21298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C56-39BD-4612-8AD4-C7C145D3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6C0BC-4FA0-4CEC-903D-A0F8331965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ACBD0-688C-48FF-8263-2F9BBB1FE6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83ED8-3097-411A-B84C-A510CBEB72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8111B-E45A-4C2F-B17A-803BD33BDC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FE0DB-8296-4E0D-92FF-D19955A5D2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E1371-9AE0-4B9F-A440-CA675F8214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56C47-E886-4D05-90AE-CFEB4EE9DF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1A2DF-AF80-4F71-BFC2-431168ECF8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27D66-6239-4CF2-9833-B017A4EDEF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CD4E-EF5E-4C31-B6AB-5D0E3E378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EE6-B238-48C7-97D4-5CC76DB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4F7A-4EF2-41D0-AF9E-51CB19045F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5F7E-74FE-4971-BFB6-BBD4B9B6CB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EC3A-7C0C-4AA7-8FEC-305DCF0C94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A433-23F5-4221-8915-3B8BBA72C2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E246-816E-499B-AD2F-DF09E71E1A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7E9A-C23E-4BD9-B307-A12681E378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BA84-5BF7-47C4-9544-1A47C57A68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D0D2-AA4E-46C9-9D0B-6FCD9BD0DB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DD7A-C261-47C5-9CB8-D18E685782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6134-CD36-498E-BB1E-DE289BF1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F67-4B78-4E0C-BB8B-217DA11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CE2E-A37B-461D-8207-2D08D33F79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C124-81CB-4078-B5D1-042ACA0873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A532-BD94-4B8E-8B2D-C746285122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46E5-8689-490D-9EA0-BEAF53AFC3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56CB6-4F25-432C-8B62-03FCA5D901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E797-6414-4FCB-8145-ACCBCBE5C2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798D-4E9F-4CEE-ABDC-0B750D4F4E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2A5A2-0BB3-42A2-8BEC-419A0F1DFE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44A0-9FCE-4B2D-8232-A45A4AD971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214BC-5BF5-4D5C-97DA-5C8315B8A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400-0DF9-49EA-9B46-38102C5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46F2-8DF0-4062-9CA3-1AAE3A3256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7BC5-22BD-48A9-85AE-F9A33FD9B8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4A1A-8F80-40E4-8B2B-79238906E5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2B807-D4A2-4905-A75E-11FA185DDA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6913A-F783-44C7-8D65-260942119E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88E24-CCB6-45DB-A978-7DCC66879E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A88EC-F36B-4391-A7F8-A80E7A9338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3FAFC-032F-4BF4-ABF8-7896F850BD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F0799-A44A-49C3-B106-BC9DE0967E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4CADE-D4B0-49AC-91D2-756AE4DF3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5F1-6AD0-4B53-A16B-DD2B5B6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638B1-05E8-40C7-B919-BAD401D504A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175C2-493B-4070-8922-998FFF3CA3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F7009-4851-4028-AF3B-986C9D9C99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07C48-F01C-46EC-9140-E0C503C060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35C8E-AA87-4C8C-9EED-6D2C929B5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7E3-D336-4989-9F9E-D8A1A53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F7E-FC3C-47A3-A2D3-D042FD5F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5FBD-DCE2-4C6D-BF8E-CBE0B0CB9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9D0-3A56-4118-A151-B6F1DE92C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B4474BD-B956-4413-9ABC-54DA8B9D214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5ED037E-EBA6-493E-A12D-505F82522BA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22F2152-6A6A-45ED-A0F7-5586DACD00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9C1C036-76D3-410E-9BA0-599663EFFB1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BC21397-CAA0-4CBC-9DEB-00110CFD871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repreneurship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Your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http://business.phillipmartin.info/la_advertising.gif"/>
          <p:cNvPicPr/>
          <p:nvPr/>
        </p:nvPicPr>
        <p:blipFill>
          <a:blip r:embed="rId1"/>
          <a:stretch/>
        </p:blipFill>
        <p:spPr>
          <a:xfrm>
            <a:off x="2971800" y="2971800"/>
            <a:ext cx="6172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880-C7BF-4F63-8B9F-A79D6AC9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-Ter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the next two to fiv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determined largely by 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make sure your marketing strategy will help you achieve medium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80880" y="3962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380880" y="464832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a 5, 10, or even 2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 can help define current marketing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BDE-354D-4DFB-9D29-7E074046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goal setting important when developing a marketing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goals ensures that the marketing you do today fits in with the total vision you have for your business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06E-E6F2-4813-B75A-AF4F4690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Market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goals &amp; marketing strategy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customers and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ine a strategy for attracting &amp; keeping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&amp; anticipated chan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42C-E1D7-4334-B57A-E2D1FF9B2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Market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ten Marketing Pl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determine whether it is solid and consisten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elp obtain financ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om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uiding docu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perate your business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lways make adjustments to market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ing Plan becomes part of Business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FF5-2DDE-43D1-B801-2C1E644A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or will expect answers to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duct will I off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my prospective customer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constant demand for this produc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mpetitors are providing the same produc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create a demand for the product I want to off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compete effectively in price, quality and delivery for my produ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B668-A952-4650-B235-616CAFCA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nswer Thos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a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rketing plan must include information on the following top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r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a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B36-7E7D-4D54-BE8F-0CFEFAD0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plans should include performance standards that measure effectiv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results should be compared to performance standards quart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I meeting sales forec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y promotional campaign reaching the target mar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y company doing everything it can to meet customers’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easy for my customers to locate my product and is it competitively pr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7719-90D4-4F5F-B3C9-5629D3E3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put your marketing plan in wri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you determine whether it i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s are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document to operat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part of your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elp obtain 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A15-F9AE-40AF-BEFA-66B01A1A5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e Marketing Mix - Produc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marketing concept affects decisions regard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 m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escribe the importance of produ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atures, branding, and pos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C:\Users\jsundlin\AppData\Local\Microsoft\Windows\Temporary Internet Files\Content.IE5\DFY2B3U9\MP900400547[1].jpg"/>
          <p:cNvPicPr/>
          <p:nvPr/>
        </p:nvPicPr>
        <p:blipFill>
          <a:blip r:embed="rId1"/>
          <a:stretch/>
        </p:blipFill>
        <p:spPr>
          <a:xfrm>
            <a:off x="6553080" y="1219320"/>
            <a:ext cx="187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D023-FFE4-4411-9F48-2662E16E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ing Concept &amp;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rketing Conce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lief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nts and n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ustomers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important 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developing any product or marketing ef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market is consumer-dr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more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ncreased (Glob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772C-1B6C-48D0-8544-C4766FF3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velop Marketing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marketing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how to develop a marketing strategy for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information is included in a marketing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236-C0DA-4BCB-ACC6-AB0D1EA93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M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products and services a business se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may carry some products tha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profi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provide a convenience for customer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oduct selection makes up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ity of sales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894-829E-43FF-8E6B-833D8A69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rketing concept affect decisions made about the product mi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lying the marketing concept, you will select a mix of products that you feel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appeal to your target cust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FA7-27AE-4C3F-8F3F-E7EE94C3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buy a product because it meets their buying nee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is more to a product than many  consumers may realize. Companies spend a lot of time develop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cka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5228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Feature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ding &amp; Pos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851E-651D-43E6-AF92-342E283A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Product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characteristics that will satisfy customer needs includ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an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rget market should be considered when selecting product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A6B-5176-4638-B642-E33AF5472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ing, Packaging &amp; Lab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an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, symbol, or design used to identify your produ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box, container, or wrapper in which the product is plac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information about the product is given on the pack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d, package &amp; label you choose for a product helps differentiate it from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your product stand out from the 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6DD2-9CC5-4371-828F-978F6B66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Your Products or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roducts/services within the same category serve different customer nee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Honda &amp; B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utomobiles (transpor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very different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o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 image for the product in the customer’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DAE0-CB05-4125-BF5C-D6EA84543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Your Products or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position a product with the customers in mi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 can 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W – Desire high quality and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da – Inexpensive family saf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56C-94CD-4DD4-8BC4-90FC5EA6B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roduct features, branding and positio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feature, branding and pos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product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it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07D-CE61-44F3-9779-527AFB18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Marketing Mix -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icing objectives for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price for products using variou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factors to consider when pric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nd describe various pricing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jsundlin\AppData\Local\Microsoft\Windows\Temporary Internet Files\Content.IE5\EC3SSIDL\MM900223799[1].gif"/>
          <p:cNvPicPr/>
          <p:nvPr/>
        </p:nvPicPr>
        <p:blipFill>
          <a:blip r:embed="rId1"/>
          <a:stretch/>
        </p:blipFill>
        <p:spPr>
          <a:xfrm>
            <a:off x="7010280" y="1371600"/>
            <a:ext cx="1352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718-807B-4A63-8610-FC06BA7A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Pric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amount a customer pays for a produ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that customers buy from you and not from your competi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so your revenues will exceed you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8C17-8F6F-4BFF-B3B1-F4F3E9AF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is all of the processes used to determine and satisfy the needs of customers and the company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important?  It’s all the process needed to reach the TARGE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C:\Program Files (x86)\Microsoft Office\MEDIA\CAGCAT10\j0293844.wmf"/>
          <p:cNvPicPr/>
          <p:nvPr/>
        </p:nvPicPr>
        <p:blipFill>
          <a:blip r:embed="rId1"/>
          <a:stretch/>
        </p:blipFill>
        <p:spPr>
          <a:xfrm>
            <a:off x="7543800" y="4648320"/>
            <a:ext cx="130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CC9-EDD2-4707-A6B2-17AF71681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s for a pricing program should be established prior to selecting a pricing strateg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s might 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ag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7445-27CC-497D-BAC3-DE7EDD74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s of making and marketing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urn on Inves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O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earned as a result of th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expressed as a percen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moothi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 $5000, want a 15% ROI (5000x.15=7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price your product to earn $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A3D1-3B91-4AE6-8E9E-0330B87B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 Shar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’s percentage of the total sales generated by all companies in the same mar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total market for a product in order for market share to be determin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unt of Sa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ket Size = Market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192,500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÷   $1,750,000   =   11%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1A3E-AAD4-46BD-83F6-CB910BB6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arket share will depend on the level of competition in your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reate a market for an entirely new product, your market share will be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ays to increase market share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ing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and promotion – attract mor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with potential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: establish informal ties w/ people who can help the business grow – attend trade shows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EE68-1F5C-4E14-9598-4F616FD74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determine pricing objectives before pricing goods and ser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cide if you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ag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 im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ice must help you meet the determine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904-13D8-4577-9C62-4B60FDC21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a Price for a Produ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pricing objectives have been determin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 your Pric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more than one price that can be charged for a pro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 may be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3A0-7D0D-47BC-B941-1A245C18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mand-Based Pricing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hat is determined by how much customers are willing to pay for a product or serv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customers to determine what they would be willing to pay for a produc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st price identified is the maximum price that can be 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C8F-084E-4BE7-A610-7A8249B11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848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-Based Pricing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using the wholesale cost of an item as the basis for the price charg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up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down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24F-3127-44E6-A502-A81837182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up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d by adding a % amount to the wholesale cost of an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up Amt = Wholesale cos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centage mark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ail Price = Wholesale cos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Markup am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down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mined by subtracting a percentage amount from the retail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down Amt = Retail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age mar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down Price = Retail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down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AF4-4A94-4C39-A8E8-CF869CF9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etition-Based Pri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hat is determined by considering what competitors charge for the same produ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your competitor ch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the same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slightly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slightly 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FA02-4BF3-4FF2-8363-920BF1FF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Concept: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eds of custo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mary foc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a product or service during the stages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BB0F-8FBC-4774-ABD1-3421F0EA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methods for determining the price to charge for a produc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E47-8F14-4308-8C60-06CE5561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 price for a service, you mu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items used in providing the serv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required to produce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73A1-D449-4FA4-8608-1F06AE34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time it takes to complete a service will be the basis for determining the price of the ser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s must decide whether the cost of materials wi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d as a separat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F18-0E88-4801-A829-8DAFEED5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-Based Pric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s $100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s a job in an 1 ½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 x 1.5 = $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 dre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a hair highlight included the hair stylist’s time and the price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D8A-2495-45B4-8BB1-7C16B80F9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services are combined under on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5D0-6938-444C-9D0B-F0440A70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icing method would be the best for a housepainter to use to price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probably u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-b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</a:t>
            </a:r>
            <a:br>
              <a:rPr sz="2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ight charge separately for paint &amp; material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-based pricing may als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AE74-ED76-4E3A-9940-159488D9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can make or break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techniques may chang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676520" y="3809880"/>
            <a:ext cx="6248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C79-2D72-4A4C-A8CD-1FE36EB0D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~ Introductor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oduct introduction, sale will be low, marketing costs high and earn little, if any, prof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 Ski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products that are new and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ice charged to cover product developm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with similar product will lower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etration Pri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intro price charged to build a strong custom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ce also discourag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D5A-917A-4E13-ACBC-E36C73823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ychological Pric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rices have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how customers perceive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 commonly in ret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used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tige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 price to create a feeling of superiority (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d/Even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ending in odd numbers are perceived to be barg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A71-3392-4108-857C-478FFC64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different prices for a specific category of products based on specific features and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motion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offering lower prices to increase sales (limited-time s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-Unit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ing items in multiples (10 for $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buy more if they perceive a bar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8D48-1C67-429B-8CA9-073A9105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successful marketing concept will: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hat will satisfy the customers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d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market products or services that customers consider better than othe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profit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D2B-DEB7-4F30-8A87-BFE1FEDF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unt Pric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customers a reduce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purch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used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early payment of invo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10, net 30 ~ 2% discount if paid within 10 days, full due in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 Dis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olume discou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lower prices based on the purchase of a large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manufacturer offers a discount to wholesaler or buyer in the same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asonal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ll seasonal merchandise out of s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F916-FBF0-48B5-9C81-0177E2F6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two techniques used in psychological pricing and provide an example of each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Prestige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Odd/Even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Price 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Promotional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Multiple-Unit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7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BB75-3717-4B96-8AA7-8B312301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two techniques used in discount pricing and provide an example of e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Dis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C:\Users\jsundlin\AppData\Local\Microsoft\Windows\Temporary Internet Files\Content.IE5\J5GV8HX8\MC900441310[1].pn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6D8-A180-4178-B26D-DD6A791C3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eet customer needs and enables the business to earn a prof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ing target market through a blend 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2B5-4769-40C4-9749-A15BA494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 that identifies how business goals will be achieved by outli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introduction or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or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B669-4070-4B0B-929F-8B297A081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Goals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th overall goals for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chievable with your availabl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short, medium and long-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to follow SMART guidelines (CH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-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At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-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- 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D72-91D7-4FA5-8B74-7AAE14B52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 for the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tated in terms of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prof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etermine how to target your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2-03-09T14:16:43Z</dcterms:modified>
  <cp:revision>884</cp:revision>
  <dc:subject/>
  <dc:title>Chapter 4</dc:title>
</cp:coreProperties>
</file>